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16A-179B-4F57-BF20-3062F782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292-02D9-49BF-BA1F-32561773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53052-26C1-4BFB-AC39-6E2B6DD5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E27C9-E983-4A8A-A6B7-2D77C34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FD2F6-7024-44A7-BCF1-3CAA5AA8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627F7-7001-43B3-99E3-8C58021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4E09D-998E-405A-ACC9-F5EF5D6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A529B-1291-447C-A13F-C80578B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30B8-FBCA-4235-B473-74D5545B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57B3A-6697-4AEB-AD27-E254B20C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5F183-A2A5-4C78-B079-21607301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41F5E-DF94-46BD-971A-C6CED610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FFE-36B9-4F13-B33F-E22852F2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A6CF1-6676-457E-9197-5429398B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FA03C-E7A3-4AE0-8419-4A4DF77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5B44B-5866-4654-8A13-097A5A73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5549B-3BA3-455A-AF1A-A84A1B9E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5CE14-D254-4E28-B2B0-4CC35344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B4ED3-C279-4858-9255-35096F7C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A7A09-7906-4103-AE96-85782D1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E50A4-7480-467E-9A6D-1627B23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B5EAC-09E2-4FEE-A490-5F0F0A77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B7C63-3E6C-44C1-99A3-D182F825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CCF-65CA-437C-8354-154CBE8A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D4F79-6E7E-442D-A64B-9F610F11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5781D-5D47-4B18-B115-C90D4032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1E12C-0163-491B-BF7D-50B38B5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3274C-375D-4DE7-8022-9B7D32B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339F3-6CB4-4498-B105-BD986CCB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A615C-BFBD-4503-A49E-1FA01147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69589-65D9-4CCF-B70A-80AAB933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66C96-DAB5-4C64-A3CC-F461BBE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48766-C9F7-4D6F-8BFC-760AB04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0A480-D0B8-4432-A43D-A7173C8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7866-FB4A-403B-AA0B-DAD82DD1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644C9-7B26-471B-9009-F208DA41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B59AC-151F-433B-B327-956E7F29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31944-38E5-4B1E-8E34-BFA0B7DF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27ABF-59B9-4118-A26C-E35120AB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7F1A7-4A03-4C14-AB27-CE0DC78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C27DA-0812-427C-8BA5-644FD603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CC1F6-8C76-413F-B6C6-54F12E57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C977-7574-4625-8EFD-909D960A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9B95C-7583-447F-93FF-7DFA84B2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A2B72-1F7A-4B36-85EF-C7C0D9F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4F21-BC21-4F11-95BA-136AC6A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F425E-BAF0-45AB-A353-9CFA316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ABE83-0F32-44E3-9787-E7AFEB8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B2F5D-9102-43BC-90C8-CEA8515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B81C4-1E5D-4A80-BB63-196334F9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2F9F1-104E-42FA-850A-9054FEF8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6A107-A529-49BA-8483-3EC1CE38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90EF8-A607-4384-9629-89805FD0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F513C-D8D3-4945-84D1-D33E691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E41B3-F52E-4F27-A1C9-0594461B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2DB56-0453-47D7-BD6C-AA349FC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3098-CC6A-4244-8F49-A31414E3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EDB47-96E6-4AFF-981F-334F2082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29634-E368-4A1B-8E12-E6206A10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81058-0F0D-4AC9-97D6-A21E9255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4D81F-01EC-4EC5-B02E-1EEBD60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08409-B03A-406A-8515-DF626B6D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9A1C0-C97A-4B2A-A9A6-B5D77CE7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9173A-A0EF-4756-9863-88AB6514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439C6-1B3F-474D-8AB7-94BFA5DE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8FC57-2404-4EFC-BE25-110DC34F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9F6B5-13CB-415E-A016-38EF8A10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0F2B-17B3-4BC2-AEEA-68935455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791AA-E461-46FE-B37A-1508EBB9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9CB2D-C98A-40C0-AB4B-07582C1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A0A7A-C151-4D56-8BB2-1233B24B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3E24B-998B-4A84-8873-813F94DD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0F126-549B-4A1C-A0DD-BF3F985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AA5B0-C074-470B-8565-C68E62A6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628E5-C791-4F7D-92CD-5FFD0C95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2F27E-3F21-4618-8508-FA01C4EA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FE817-FE06-4BE4-BE24-72B97328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E5FD4-C98D-4251-8745-9828F315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5C30-EACD-48B1-8423-08F31E1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6CC7D-A73A-4A56-AE2A-C9BC1CFF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761FD-E652-4615-A47A-CAFCDBD7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0D70E-E7E7-4DE0-A0BA-1588C04F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D2F7B-BADA-4428-9F68-8CF7582C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73690-EE56-4511-9E05-6790A117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B4F8C-B4D0-497E-9C0D-99360CB4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BBC60-3B99-4294-B15A-220D62E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D1363-F4CD-4FFC-99EC-ADCF578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799C9-9769-4921-899A-A46AB40E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8F9B7-077B-419E-9C92-4D4C7C2B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8AE5-385F-464D-BABE-9CEFC27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AEFE0-9947-41C4-933F-11D0A655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E9314-67C7-486C-8C54-1259DC37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B661C-6AA6-404D-BB89-267B921A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CEF45-0D03-4FE1-8FF0-5F70DC4D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85C25-1597-4F2D-88D4-9F7E17C2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129BA-94B5-44FC-BD92-C17AEC11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1809F-BA19-4CD7-A559-CCC2D7C5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35197-3929-4EB9-B2C2-DE460D39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2CE53-0BA8-4D77-8860-075DF62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22114-7328-449D-AC49-46995BA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E782-4235-4491-BD1B-AFAFF74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1658E-EB4C-461D-9D29-FD73548A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C5352-6C62-43C6-8313-E388DD6F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401C4-2531-4F34-9C8E-7DE9D5EC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92C9C-7B8A-434E-BEED-4A87F0CF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6B4DF-D0FC-4F62-946F-3EF15012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4EB9A-667D-4AFE-BBA7-36AB282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5BEF4-3883-456C-A53A-E897EFBF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351F9-B126-441E-9C10-94D3B73A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F47F0-F117-4099-8EFF-359DB73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2ACA2-68D1-4A5D-909A-A80242F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106-DB4C-437D-A390-383D6C36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9CEA-14F2-4C72-B04E-CF9CFDA8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3B75C0-A4DA-4FEF-8A63-4EFD4F7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5AAC6-EAD2-4902-A05E-515D0A21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0F5EF-BAA0-4A21-83F5-5BFEA5DF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C62A6-56E4-42B6-B44D-ACAAD229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7D157-4608-415A-8E8C-D8E5D270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39685-5DFA-4FAE-B41F-670CCB8C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9323C-2D9F-44F0-8DAA-4CD5D09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6124E-59E1-4EDF-95BA-E2003D10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DCF63-2A70-4E31-8242-5DE4CD01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9702B-09D5-40CA-BD53-F75E54D2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3A5D-B9D4-48E6-8FA1-23F7463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6F8AF-BA14-49EF-B975-00A790AB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6C903-7EE3-450B-B34F-635A8B3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DBEF6-693B-4EA1-9A5F-4DD1EF1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EEB5A-CC7E-4754-A7E0-46D69AF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35ED6-1A32-43DF-9F7A-51F8F561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138CE-E9DC-451F-8571-F7341841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316F3-7742-4A56-A86C-FBC8CF62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407AA-50D7-4C71-910B-DACEADAF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640E20-52A5-499E-B6DA-FD8FCD97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30717-ABB1-4D0A-86B5-47100AC8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0B16-777E-45F5-A01D-4399966C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6D95A-F33F-4CAE-B2CB-593E51AA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E6152F-F858-4AD1-9025-FFCA7EF5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C1F5B-2448-4335-B6C7-37608721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F6A7D6-57F2-4AB7-B403-E0E47B9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2A520-DA3A-452E-9805-BAE22DAD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F8D60-E29C-4BB5-8A09-BA2EF31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B2ACE-11E0-412D-BDA2-B561A3D7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0960F-D3A9-45B7-B143-3B83C3BF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0EB3F-A437-4E7D-B934-20F23E77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95C05-D944-4D02-AD3D-D4E5A1FA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4663-3B59-4310-AC8C-352B5833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B5739-0C55-44D4-B8F2-1B94E04B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B656E-2CDF-4142-BBD2-572635C7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71D97-E6B6-4F14-969E-2EE90081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205C5-D6FA-4DF7-AEC5-BDC60EDB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44450-D83D-471B-973F-168331C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B37D45-7964-4998-A5B8-FDAF537E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77176-F048-4914-A96F-A1983A5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A69CE-86BD-4D48-92B3-AE4C85F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0536C-15B7-48F9-8803-EDBF8EBD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E386C-9E3A-457E-A26B-259CBD31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C36B-8910-468E-BBF4-FDB1DC53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C99B2-285B-4B5B-8467-FADDFC18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A4EEE4-064D-465C-82E1-DB1E4EF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1D502B-D943-4D08-88DE-038551B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FD976-D6E5-47AB-A1F8-9CE600E6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4FB69-AD2C-4CE2-916E-0C6FF952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8BCFD-CAEE-43EB-962E-F26FD450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44A479-05BC-4EEC-85BD-52864067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0AD40-8F46-4C88-AD14-CF6E22C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571F4-9C8B-419C-85B9-D865401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3DCE1-D605-43A7-A047-1685787F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812DE-FF3D-4F40-8599-3C677371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5036D5-DD62-46A9-B9CD-11266B4B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88EA0-94F1-4C50-BB8D-4B8466B2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C7459-6C40-42C9-A59C-8164B09D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83BF-746E-452F-B691-30897D27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3382-975C-4EA5-9AA7-865792CF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1D20-12C4-4F64-961D-77DB6F99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3FBB-8AF0-41B1-A837-78070762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DF5-AD96-4C7A-9DCC-3CBF1B5A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61F5-63D4-42D8-82EB-A033151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D3D8-17F4-48AF-92D2-6DD7FE2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FA59-6818-4042-8433-C1D7636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E817-D6C6-4CDE-9721-F0002511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3DB0-51B9-48BE-B1AF-548B11C0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F75F-223B-4186-AB62-8CF50853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65B7-7677-449B-81B8-3DB8BF07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89E7-68C2-4C24-9C9F-3CE4455A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1D51-E58A-40D6-8567-D8EEF21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4C92-B3FC-427E-A839-D3688398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EB0-EE6B-443B-BA4B-0F882786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2EC0-A78F-4DE3-BC39-8031E4B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DCDBD-DD5F-42CB-BB36-466C4FBC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0393-D08F-4A3B-B3EF-3985C072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3659-819F-4403-9B6B-4230D2B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C0D4-E4EF-4F9D-BBDD-670F748A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D6038-C277-4678-B536-801EC2C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C428-34A9-4524-B434-442B6C56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51C0-F1D1-456F-A661-DAE20855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FCA8-B91D-4E8E-A3D5-5F052032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A253-7A7D-4F2C-B8A9-991DB06D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FD8-9CCF-4AEC-9481-E5CF10B5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3054-118D-4ECC-AB9A-E31333D4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716D5-ABB1-41B6-B288-968B57DB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4B5E2-AC37-485B-8217-63B9FBAD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DBCE-4401-4987-8D3D-663A5107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A3E4-DD3B-476E-960C-13CB51B1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63AA0-D187-4CA0-B2F2-31B7FF9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E99D3-550F-4BBA-A816-68EA53C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240D3-BE8F-4BD7-86A6-C9FC32DF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EA81B-1AE7-43B2-81DA-6BCCB3A9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FE3F8-5F01-4747-A366-E90871D1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3BB-73BB-461D-9B42-07ABE80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07E22-7BEC-4BDB-B60A-B63CBF2A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81C0-2D46-48F0-857B-636DE42D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E1AB-16E1-4095-92D2-8630F477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71C75-7F06-4C12-8899-C2EB149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09F1-44B6-44C5-87BE-444ABE73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F83D-3C8E-44F4-A88D-E95A81C7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64B60-4A3E-4F5C-BC5D-C0C26D70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B0056-6AEB-45E7-807E-D71349AE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054D-34A5-4DD9-8760-C8AC5121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64031-ED83-4147-BDB0-CD82C62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5BC-6926-4F71-AD57-F573E421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2B716-CCBF-4064-8512-F3355B5F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E1692-DA48-4F66-BF3D-85C2AAC2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61352-274D-48F1-97A9-33F113D4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5E25C-3559-470B-800A-F454C1F4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C1883-39F5-43EA-B456-B004B692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0641A-7050-4892-BFEF-927E22E5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7C8F7-AD51-42F9-8298-D180D176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45CEB-E614-4729-BEBF-05D1A4C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52C58-B203-4654-9A2F-934D8F0C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A699-8FE1-4D0D-B7B2-C71D1FC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CA1-52DF-420E-AE7A-B40FDC8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807B-E7ED-4A9B-9903-5073D751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CCF7C-86C5-4026-9E03-90D4CB9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6B812-3A4F-4924-AB9F-04C60E2E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17CE0-E65E-4998-916F-FA37AE32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ECB11-5F93-4984-BB98-66269191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AF83C-3EAE-4122-911F-7621584C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647C0-C939-4FED-BB9E-CBEDD61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0E915-6B7F-4373-9F82-0763DE4B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908B-3BC5-4DF1-8127-B59739B3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32CBB-462E-4637-B084-27861345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7AC-F11A-42F6-9767-2F709028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9F935-0EBC-408C-A3A6-DECC6597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FACDE-EA06-46E0-9749-AF93694A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E9813-AC1D-47A3-9152-D3C761F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BB955-FACB-4618-8406-C9589BA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00DE4-6A8A-4E22-9AF3-8504353D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FE9F5-6054-407D-AEE4-E2E2E7D0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F6711-2165-4902-B683-3AB25DBD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9B7F7-02ED-4708-8732-2545BFC5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F1BE9-A1EF-444C-82B2-6BBDB083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3DDFC-5483-453C-9BE9-B92B633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FB36-78A8-4C5D-A5E9-2D0379281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A013-0711-4462-B433-07C8A0220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2741-5169-4951-B183-08DC94AD2A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74BF-6B99-4C5F-99FA-860FBE47A2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9462-3275-4933-A3AB-CBE17D4C51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93B8-9E43-4C89-8502-BBE51771F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2B91-6DE5-40E3-A21C-BD1052E5B6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65A-D55B-44C3-9DC0-B8C0C4201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0C46-B6D1-4B70-A1E6-EFF19D2621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139C-C088-4193-ACB6-44081BF470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C7D1-55B5-4D8E-91A2-AEF9ACDB86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5EDB-D0C4-4BA3-82DD-B085C5826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8ABE-65C0-4650-B17B-476E55852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A08E-BD09-4A24-8AF0-DCA0144FF9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A595-34D4-4C73-B525-7E1210843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9EF0-EAC8-4310-8895-ED4477B08B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3344-1465-496B-B56D-877659D862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7250-2AC1-4B6F-A853-A669B27408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DDE-4065-4FB4-846C-252ACE526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173E-67C2-4546-90CB-A9C2D52419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E89A-1E7D-488D-873F-B7FD6BC715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79BB-2351-4D70-9AB1-7B8E9668B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CB9D-5D45-4BCC-A281-902FDE972F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FC90-CE94-4D1D-AFD8-FB50CE8C2D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2AA-A4FE-4D37-AF43-2BC9AD4A97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F39D-7B44-472D-9F40-43AD47D71D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F336-DC4D-4D83-89DC-AA1CE0AC4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5E93-2E82-4637-81EA-A7A481765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98AC-61B9-416D-8869-9403B29E42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881B-E294-4933-9C06-223CE81D9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C8F-277D-4171-83D8-68851C0AF7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CDF6-3FD6-4B7C-A718-166BA2183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285F-0F8D-417E-87F6-76F7889A1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6C5C-96F4-4814-8206-61C306BAD4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9218-81E6-468F-947F-03EFAAAB55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E404-E52E-481E-BFBC-2000407C2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FCAC-187A-41E4-B6A4-740379861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CEF2-9073-43A5-BF89-180A77FF6B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59A1-ED73-4996-BE0F-C5A83A003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4A5B-67DF-43A9-91C2-05CC47F84E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85920" y="3086280"/>
            <a:ext cx="6572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682560" y="795240"/>
            <a:ext cx="7780320" cy="5934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556000" y="36162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372360" y="358776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556000" y="61801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372360" y="618012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3095640" y="2238480"/>
            <a:ext cx="2952720" cy="2381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154400" y="4105440"/>
            <a:ext cx="57636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3" descr=""/>
          <p:cNvPicPr/>
          <p:nvPr/>
        </p:nvPicPr>
        <p:blipFill>
          <a:blip r:embed="rId1"/>
          <a:stretch/>
        </p:blipFill>
        <p:spPr>
          <a:xfrm>
            <a:off x="614520" y="1614600"/>
            <a:ext cx="7913520" cy="3628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023840" y="1117440"/>
            <a:ext cx="7096320" cy="55724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2771640" y="3284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771640" y="62229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976320" y="2057400"/>
            <a:ext cx="7191360" cy="2743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6516720" y="42354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1314360" y="957240"/>
            <a:ext cx="6515280" cy="49435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1300320" y="1433520"/>
            <a:ext cx="6543360" cy="39909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214200" y="1014480"/>
            <a:ext cx="8713800" cy="4829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5219640" y="2895480"/>
            <a:ext cx="288144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5651640" y="3645000"/>
            <a:ext cx="28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5435640" y="4379760"/>
            <a:ext cx="288144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5580000" y="5113440"/>
            <a:ext cx="2881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5:0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